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76FA-8EE0-4AEE-9BBC-7A7269A8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48A8-5126-4EB1-889E-B63ABE50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D33F-E712-4173-BA86-54ED416A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5AB6-0662-4D41-B5C2-0C42290D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FAEA-CA5E-4D40-B8C7-C7B493EB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B07-3F92-4475-8682-7C355DB4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24C1-58D1-4F5E-984E-C3DFB02C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FE0A-A63D-40BC-9208-EBC7FD9E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E07A-09AC-4136-8521-61B769ED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9B08-20D2-4FDD-96D2-77DB7C1E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8B8B-ED18-4985-9EF8-646892E9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0EAE-0566-453D-9AFB-5221C609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902C-16BC-460C-8846-2C46C5C61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5-08-24T16:22:30Z</dcterms:modified>
  <cp:revision>8</cp:revision>
  <dc:subject/>
  <dc:title>PowerPoint Presentation</dc:title>
</cp:coreProperties>
</file>